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62D19-68A1-417F-98C7-E1CE2ACB5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48062-29C1-46C6-8046-4E2EB0D58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68EC1-5B99-454D-9B3F-76DC8E3B8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A4F3D-A53B-47BE-B00F-9B9BE8279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D9658-37FB-463E-A9F3-271CEB036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8E8E6-62B0-42E6-9FBA-8CC06A572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B7185-59DE-4154-8C8B-32AE8C952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11F8C-50DE-47D7-BA70-3B7D3996F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01A78-9BC0-43F1-AD87-8036B1E8B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7B590-649F-4523-A99F-3694AA4ED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6C0D6-78EB-4A1F-8B98-77ADA0EC8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3A3D4-18B0-43AA-A41E-1A5A2EFEE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BF95F-CBF1-488B-828C-0B5555F93595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7200" spc="-1" strike="noStrike">
                <a:solidFill>
                  <a:srgbClr val="ffff00"/>
                </a:solidFill>
                <a:latin typeface="Times New Roman"/>
              </a:rPr>
              <a:t>专家包</a:t>
            </a:r>
            <a:endParaRPr b="0" lang="en-US" sz="7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6200"/>
            <a:ext cx="6945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——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CnPack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开发组管理员：刘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2007.03.26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结构与规模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最小化框架，实现管理器和专家注册机制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Open Tools API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接口包装，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服务封装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各项子功能独立化，可动态装配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统一的基类设置与调试输出接口的支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提供多语控制接口，支持动态界面切换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代码规模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万行左右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开发组的成员结构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职能分工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项目管理员、代码提交控制人员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开发人员、测试人员、文档编写人员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交流管理人员：包括邮件、论坛、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QQ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群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层次结构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管理员：负责整个开发组和项目的协调管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核心组成员：主力开发测试人员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普通成员：代码贡献人员和普通文档测试员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开发组的项目管理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主力平台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Redsag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镜像平台：共创（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osoft)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SourceFor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代码协作与管理工具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V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任务管理与错误跟踪：基于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Web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VSTra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每日构建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want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，全程自动发布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VSTrac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任务单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826920" y="1413000"/>
            <a:ext cx="7561440" cy="50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VSTrac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时间线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826920" y="1413000"/>
            <a:ext cx="7561440" cy="50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的计划与展望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产品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Pascal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脚本支持，提供开放的开发接口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Delphi 2007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的支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根据用户需求完善其功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.NET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或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Java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平台（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Eclips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）插件计划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网上社区建设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社区，供用户交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开发组团队建设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功能演示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参赛版本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Wizards 0.8.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演示版本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Wizards 0.8.2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预览版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初步支持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Pasca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脚本功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支持自定义编译选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演示环境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orland Delphi 7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演示内容：代码输入助手、窗体设计工具栏、单元窗体列表、编辑器工具栏、多语切换、专家设置列表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Pascal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脚本、源码统计、自定义编译选项设置工具等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谢 谢 大 家 ！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欢迎交流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http://www.cnpack.or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master@cnpack.or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开发组简介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开发组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2001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年发源于大富翁论坛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初期目标：基于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elphi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开发包、工具包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现有成员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240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人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现有产品：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专家包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组件包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VSTracNT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（移植版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创始人：周劲羽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管理员：周劲羽、刘啸（参赛负责人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简介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什么是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专家包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是一组集成在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elphi / C++Builder / BDS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中，用于增强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功能、提高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可用性及开发效率的免费、开放源码工具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的第一个版本发布于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2002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年底，目前已走过四年的历程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简介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专家包主要面向哪类用户群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主要面对使用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elphi 5 6 7 8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++Builder 5 6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与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DS 2005  2006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开发者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目前的发布版本包括简体中文、繁体中文、英语三种语言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简介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参赛版本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0.8.1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，目前正准备发布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0.8.2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的主力开发者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开发组的创始人、管理员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周劲羽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先生曾被评为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Borland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产品专家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用户遍布国内外。据目前升级数量的统计，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的用户数目保守估计在四千人以上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用户群分布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971640" y="1413000"/>
            <a:ext cx="7056360" cy="48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开发背景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orland Delphi/C++Builder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系列工具占有相当的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RAD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市场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orland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Open Tools API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接口提供了开放的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架构体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国外同类专家产品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GExperts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odeRush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astalia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ModelMaker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等拥有相当用户群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国内暂无符合中国人开发习惯的专家产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据此，我们开发了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专家包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许可协议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遵循《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许可协议 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该协议基于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OpenSource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官方开源协议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源码未经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开发组授权禁止用于商业目的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二次发布时必须附带此协议文本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不提供任何明确或隐含的担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免责声明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特色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简繁英多语言界面支持，方便国内外用户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功能强大，部分特色功能属于首创，居国内外领先水平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部分特色功能针对中文用户的需求，弥补了国外产品部分功能不实用的缺陷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附带一批成熟的组件包和公共库工具供开发者使用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免费开源，框架体系开放，可供二次开发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6T12:57:51Z</dcterms:created>
  <dc:creator>刘啸</dc:creator>
  <dc:description>2001－2007 CnPack开发组</dc:description>
  <dc:language>en-US</dc:language>
  <cp:lastModifiedBy>Passion</cp:lastModifiedBy>
  <dcterms:modified xsi:type="dcterms:W3CDTF">2007-03-24T13:30:58Z</dcterms:modified>
  <cp:revision>29</cp:revision>
  <dc:subject/>
  <dc:title>CnPack IDE 专家包参赛作品介绍</dc:title>
</cp:coreProperties>
</file>